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860-AED2-43D2-AE13-B74A9D39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757-9960-4120-AA23-748DA83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0BA00-B32D-4CE2-85AE-5C000AA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240B7-BC6B-4C89-ADE6-BC87480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E7997-4CF9-43AE-B1BD-51AC4E9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748E5-786A-4EC1-8D58-5AD45A1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CFDBF-D942-4B68-B90A-9320DD9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64F5A-DBFA-4F87-BFF4-8376573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0401E-D772-4F01-BD6B-9409E65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3C907-9E4A-477B-AA66-CB1C439D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6A378-A40E-4902-A9E2-8FFF4B22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391E7-9FE5-4815-A0FA-C243397C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9E6-9B9F-4653-96C7-5E8E0F77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3B91E-080A-4A02-B997-134B42AF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46ECD-1329-4E01-BEEB-04358503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27CC-CBDC-4101-A651-E08D5642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72AB2-D243-4008-8193-6A23B0F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677DE-E6A0-46C3-A7CC-A52D022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D7ACD-428E-4F9A-AFE2-575B8D60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C9CF-D03F-4629-ADDD-C02AE27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EB403-B00F-4A83-8606-D7F202CC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302AE-EE13-4B89-A87C-7BBC4958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A38A-1326-4C48-B024-3B589473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A4B-F5DF-41DC-B5C8-AF77BF84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ED256-C76B-402D-A830-5C83466A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8E5E3-D1B4-486B-BEEC-B60E4C29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44409-36DF-4A8F-B1F6-10911B6D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2C4C5-0901-4B0B-8C90-B53A272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72B11-12F9-4ACA-87A9-E6BA3E9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DEE97-85AA-4C5D-9D8B-50A5CC3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35332-475B-46CC-A384-FA5256A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C92FD-3A4C-4420-A9A5-6D88E6B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A5990-9C44-4D4A-B7F8-D40065A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7CF12-3C67-463F-AFF0-732FE79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655F-2924-4BA0-A0CF-EFC11E7C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BD133-8886-4941-88DD-7A01635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F1722-1120-4562-8900-4EED62F7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61E9-6A61-41D8-97EF-9DABDBD3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623C2-E4E3-4BAA-AF5B-E3630551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E81C2-F296-4D74-8223-EA5BD7F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6103E-2B5C-440A-8E62-F4B15D3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2EFDA-7993-4B9E-9B41-74A3F753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1E182-34F2-4188-884A-C5F32A6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602BE-ACF5-4F0C-A02C-94F9F4AF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A3121-DA2D-4F6F-916C-153EFD94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38E-C0DE-4AD6-AB4A-A28C073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A7CAB-8A61-4F9B-AD73-D1914F0D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225EF-A2EA-4EAF-9F4D-1CF60610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1CFD7-0B06-4057-ABD7-261F3E73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974B4-9D10-4458-A470-CA586586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848E-7BC2-4C35-BF1B-3D91B365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84C29-35E1-4D71-9011-2EBB3538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F20D8-BBE5-4767-B092-8EED437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A2B4F-0568-423E-9C4C-95B26E79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68EA7-E033-4580-877C-2564AB65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0D136-C221-48A7-BBDE-D06DBCF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C26A-3205-43A0-B08F-ACD35BC9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5FE0C-E986-4523-BE4F-FA275AD1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9D085-3CF2-438D-AFDA-1BA8B9F2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1898B-5FD6-430E-A8FD-B10FEC8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F2F82-EEF5-4D71-BEA8-FB5B577F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13B8B-9064-4F62-868B-8FB79165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BC1FA-7471-4DAB-803F-C7466660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2497D-9FF4-416B-A8E6-0A26778A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05040-AC10-47FB-A559-B593452F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46408-28CA-4CBA-9AAE-448B683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A06BD-505B-4A18-8FD1-74C74B23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AC4-2959-4137-89C6-263D4775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FCDB7-7321-4377-A02F-D277492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7BA3C-E752-47A7-B98C-63DF2E2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CA757-AFBA-4731-B82D-C4828CD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77427-EBC0-45D7-AB0D-4F2EE2A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31CE0-FBEF-4D00-A81F-140E0EF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30EF3-A1AA-487E-8343-D6A30E5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0553C-09A4-4F4B-99B4-D25E01E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CC42C-21BE-4A04-A40D-45F5669D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AC0E5-32B2-4A7B-87BC-11A355D8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E04C7-8410-4C3C-BFB0-4A82B71C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7229-6EF8-4B9B-A98B-3F864CD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87720-C430-434F-AECF-1806625F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6D590-2FA2-4C1F-98BD-E4623FF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AE941-81F1-41A8-8923-CE5AB1D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7D58A-A4A0-492B-A354-3C4F3477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44F59-2E08-4F33-B818-EBEB393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CDAE8-1C6F-4116-90F4-A0D22F9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0D1C1-44C3-4248-8390-2204FD1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F820D-0CB2-45AA-B26C-729EDD9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98FD1-B4BC-4773-8548-D4DCC5A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678FE-C24D-4E89-AD75-2A20FE49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5CCE-FF2F-4AA0-A5C3-F20FD3C8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85622-0A51-44A4-8C8C-35E21D95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B59DE-027C-4236-9FD9-A47A396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FB1EA-AFD1-4ACD-8A94-E8578FC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F399A-047A-4B63-9457-E8B987B8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4F052-098E-4176-8B7F-CCD3F35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C8DF9-DA39-4AC2-90A8-C289E522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F99BC-E111-4AB2-8D25-1DD1BC1C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ACE19-DA59-425D-A3C1-9304241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11CEC-910D-4D5E-B658-BCA6176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9F0B7-ADBE-4D2B-BE14-BF2390E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21B7-3276-4D56-8890-B0288A8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8234F-0AD0-4617-81F5-E7AF8F88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39449-02E7-44F1-B0A2-59ACCEE1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5699A-6A87-41AC-8EA2-B9EFF753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27293-2E2E-4D53-BF08-C0825523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E77B3-6C69-417C-9ABE-3BB2F869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4B3AA-93FA-4228-A392-6AEC0F02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6381D-3DCC-49CA-A68B-71F6E289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83F33-EC0E-494A-89BF-FE6E4883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E44D3-EC7D-4459-A32C-8511428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0DB5C-CEEC-47AE-B353-CC80FE4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605-5F66-455D-98F1-907CA14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C37B-3ECF-42CE-827E-5C2EC3A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E397E-4393-4DCA-8050-7216B5DC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45AB9-55AF-4DD8-A8AB-E520F91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5F66A-F852-4545-AFE9-196C8084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2EEFD-88FF-4AD0-8EDC-FF4F1502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25536-BDF4-4465-B7D9-5F40B1C4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4771F-4FF9-458F-89F7-395A1786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E3DB4-6FC3-4097-ACD9-8B17E6D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D8D44-952E-4E6A-AD11-D9256D31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53C42-BED3-4D74-A62A-55D692DB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49DE0-1937-47CA-85A8-7AC777D5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D464-C053-4DB6-B262-F288053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4714F-433A-494D-B6DA-6164AD8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CC407-6CD8-45F8-8AA6-E9138FD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E3E1B-2E9A-4549-B7B0-DC4FF03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FA393-57C3-463A-8348-E79FB6B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523D6-088C-4566-9977-8E2FD9C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C1F2D-85F1-4D27-A338-ECD37C45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E864C-ED0C-4F45-A570-5F514226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0E844-C226-4BB3-9513-3577C979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4C71D-57D9-44C3-B093-14494CA7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2A4E9-3524-4100-B76C-26273D34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239-0103-4FC6-A5CF-C6ADE465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FB74A3-6AC7-4E6C-9489-0BD7D87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449AF-D87F-4997-8C0E-44E1FE7C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2FFA2-585D-4811-9DBB-2B4D5299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AB317-F41B-46EE-B969-DDDB106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D6135-96F9-4621-9D20-1B4D884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75967-8BF7-42F1-A279-6ECAEE0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043FE-99B0-4BE1-AE63-BACDBCBF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A79B27-840C-42E8-9ECC-317813CE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71AEE-0FC1-485E-9AF1-50877867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DF5FA-DB5E-4C9F-9985-703B56BC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76AD-DB64-41D4-8A81-1C9624C1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7A4E1-8767-49BF-B7E7-6000FC43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A2552-A6CE-4620-8D49-8DBF5D8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E66D6-9FD0-4413-972A-1EDD4A3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D4A86-1C04-4212-B321-D6BBC105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30B7B-F2D8-4B26-913E-6A780E5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E7384-3AEB-40D7-A34A-9EBE324B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706C6-70BE-4FAB-9A52-F3FE7F2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FC14B-A947-4007-9E41-982E796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DFA29-AE48-423F-8087-540CA9E9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44C24-814F-44EE-850B-DF32F9AC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AF77-BD39-477E-B69A-681DFBB4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7E82A9-83ED-45AE-8C66-D662D12C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921AAC-57A4-41F3-8A87-8D05682B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7753C-4261-42B4-8E11-BE412D39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6AE3C-6B08-4F33-9744-D63D4D3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1747B-4A9B-41BA-A634-513FFDF0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35A7F-5B57-4F2C-8E0B-4E0AA6A5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4550E-5435-479E-8D29-B3CF43B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8E6AA-A146-4C0F-A692-2115BE8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0E3BD-8C59-4016-B0D4-17696C1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AF150-5195-439B-BDEE-8E92AD9F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DC83-56DE-46F2-9470-18D22BFB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7CFCA-FCBC-49BD-A6A2-88623AB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EC1D9-2373-4A2D-BF83-7D517816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CFFC1-8786-434B-B076-4B753998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12759D-C997-4DEA-8EAA-0996DBD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72DD3-7B97-468E-8F06-40AB5BE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A04FC8-96C1-4FF0-99A7-F5CCD51F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9DBF6-3EB7-4465-BC09-6B7EC180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83FBB-4091-4D57-803A-8A9AA07E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92B168-E7C0-41CC-B0D2-88A72C25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3CBEB5-8F27-4A17-A2A4-52171B0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EEAC-B9B9-4809-9764-B83DB4B1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A74D27-D3A7-47AF-A3BA-4AA7D0DA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E4BCC-4933-4563-8864-41FC18E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4DB9D-3265-404E-97F1-481506F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1D6B19-7425-441F-9463-7F460DE4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3602E-D4B4-4F45-88FA-FC1878EF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D12F5-5CBB-4994-8090-409E9986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422DB9-87FD-435F-B4FD-758BB0F9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66FA20-21D3-4B64-8149-7EB6506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35BBA-AAE2-4932-AC4A-37606CB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CB2AD4-42EC-4239-AA61-FDB0D2C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70A7-1D8C-48D5-A3CE-47DE5FF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E71AE9-C881-4F12-9211-78DE80EA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14BE1A-3745-40C8-B1DE-3BDFB63F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050E55-14FD-4E70-BDE0-458534D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76D30A-880B-4BE3-9B41-CCD4FDD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08180-4D36-4537-854B-18D90F75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99A585-EF9A-4E3A-9D15-DD8D6634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A81350-5D01-44FC-9183-94EC203C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81C16-177D-4E61-BDE2-933DE5D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58F49-B3C4-46E2-830D-36071F9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032BD0-6463-4A51-830A-E5010245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3BBB-E9F4-4B0E-B59D-DD88AE9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37A6D8-3BDB-4DC5-B715-FCC5A7EC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F8E8FA-4918-4E2D-961F-6D7B9B7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7F5966-567C-4BF6-A901-9D1A1E5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77AB58-65B6-4109-8D71-B30DD39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67C7F2-9892-4238-B3F0-329E585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C66D7A-3428-4EC2-A3F2-9CFCF79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778B6E-2C5F-498B-9F07-4E32344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2DD257-B0E5-4C57-B389-FB782CBA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D0BEE3-7F9A-4B57-9C49-E4775751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A7185A-9D08-4C53-BCBC-96BAC416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C5C9-BFFE-477C-8757-F8871840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A9F2C7-E792-48D9-9AC5-814072E3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A8B67-A3CD-41D3-86FC-6022628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D019CC-66AC-4D52-8A58-F97CFAA5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F21101-4760-4F4B-91CA-22BF6548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463715-2F1D-4F46-B808-D8B69B5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1D1896-FA94-404D-84C6-A1BCA09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F653F0-D6A6-4B62-929E-73C5F25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755AD0-C7E4-45DF-AE2D-63D1467E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3B7606-5371-4D90-895E-B93E9C88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B033F1-3E1D-4BDC-B3D7-0454710C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7FD-839E-42D3-89FF-D73EF0CE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1F9A-AADD-4AF3-9536-CC8A8EB6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C2ED0-687E-423D-8014-D8A6E6EE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B64F23-85BC-4677-836D-F1673AC8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2560A5-D828-4DEA-A381-BB11768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4A7B7E-0AFE-4579-852A-251A204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68F17C-593A-4324-B387-D741C3FB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18BA21-D412-4E0D-A9C0-8234965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AD87A5-6CA6-4593-9A66-0D09D618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BF1D70-2E69-422D-B39A-3B513957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BC639A-73D2-4F02-9795-3DA968D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CD6161-010A-4CF9-9BBA-E7D13B5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5229F-15FC-4CE9-97C6-CFDF847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912997-137F-4EB6-A4A2-3BDF2418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827301-FE7E-4393-85AF-87270712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D450E0-3361-4DFE-94EE-2FC27BE1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333702-B724-4C18-A2E7-F3AE95FF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FAEBF9-A77F-4AE9-9844-32B60EB5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424AFA-B05B-419D-9EAC-D20F7D0E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2470E8-88E4-4F4F-ABED-97CBF57E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FBC3C9-70DA-4FC9-951A-F1BBD998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51AD12-5E74-4D96-B9CB-C6FE759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D617BD-1A30-4A52-B72A-265D94C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1E7C-6D9D-4137-8CDB-A7C85077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91A626-5F40-47FA-8EA0-6364A5DA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52D25E-EDC1-48A9-90F6-34A2114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9CE98E-69F5-45FF-A5F1-C7CE8FB0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D0851D-9031-4038-A58B-73BB3C1E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339E49-D352-4C0E-92BD-37082E33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05E782-573C-416F-B46B-631E12C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5AFED7-7C96-4DE0-9D8E-2B9974F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FE91D1-DA4B-468F-8646-59969252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1E0DB9-82BF-42AD-AEC9-DAB4B8D6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AA6900-6C44-4CC2-A43D-E76817A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0F2E-40E7-41A9-BFD0-FD85E711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258396-414E-4F9D-A718-814F753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F0CE1E-760B-4085-8F2D-5C37485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08C653-C5CF-4E77-9FAE-4A8BC5D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2EA352-5CE4-4DC7-BBB1-2D8DE41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4B90BC-1068-438A-961C-EA057F9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6353AC-A1F7-4256-B142-B0209C8D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A01388-5E75-45E6-A362-4A7D2CC2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73E7B0-8BB1-4958-B9E8-1ADDA1DB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A25D39-40C9-4DAD-A6EE-3EF66C57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EB545A-7DAC-48BF-8E42-A508D1F5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B7BE-9AC5-4550-9FDE-4427909B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D97091-702A-4974-8559-5EBF952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BF6FDE-F8B2-4951-9202-2DB7099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BAFD40-65F0-4D46-953A-1EA34E4B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8FB7F4-DE29-4A09-848C-3FAA69D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5D51CE-4F03-4810-A4EB-7C3F540B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DBFC62-71D9-4672-B27C-92F7E02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D4306D-F3EC-48C4-9D7B-BC9C7FE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BD50CD-66C3-4BEB-898C-013ACE4A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D9CBD1-69A8-4520-BC83-11929CD0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7D5E9C-E962-419D-B588-C00DEF8C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76A6-AF82-474F-9B59-A068A83B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DBAEA9-A482-492C-9778-0D5AE95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BF1390-D82D-44DD-A0F1-7BD8F949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BBFDB6-D3FA-4C24-BCC3-7C45AC94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8D2FCC-0132-427A-A3A7-8EA9BF72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679D9A-4970-4DB2-A37E-BF090617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02E78E-53CD-4F83-8D75-0A00673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B14626-64F8-4D4F-947B-A75527D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72F09B-FF31-49AB-AE33-8C89831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A91BAB-5A40-4907-9E1D-FF27B01D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078012-FA92-402D-AED0-D0DEE810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9F3D-5B9F-4ACB-A0AB-2AA65F00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FC3884-FC09-4081-99BD-D312F7DB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A22BAA-2B9F-4271-8C8E-C43CE3CE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A0EA8E-0366-4BB0-80A8-5C4B953C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483C09-E90A-4200-B6D1-384D969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1E1530-EA66-4788-A723-238BB1EE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21A939-624F-4901-A909-C18530BC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995F2D-BCD0-4763-B711-5AC0F02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F18397-3ADE-4CCA-98B6-521687C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270F0A-4318-4B22-9291-11463E0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E0763E-818E-40C5-A60F-668833A3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CAD89-C8E5-4823-900E-CE387CF6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48AC02-C050-49E6-85E4-13406D3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4D97C3-212D-40CC-866A-2F38A62F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ED9A31-6FA7-411C-9D5F-C7B1B8D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B392-5588-4C75-8CB0-9384439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D9054-13D6-44B3-AC48-527CFAEC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81D-94BC-4896-9BF0-820FB48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ADA9-D67D-46D6-9DE8-454829DE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F174-92A2-4FD6-9F67-4E4DB0C2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5B43-6986-4B57-8807-14200CA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8B66-414B-4F9F-9F41-7CB0B32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3542-3A02-48FD-9DC0-41E3C11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22E9-2E53-4C9F-89D2-761B576F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72A5-FCA4-4005-ABE2-5911F358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A25C-FABC-4254-A08E-3E4195F6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80A9-5A4F-4198-9C2A-E1365749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0C449-9B61-4157-BA47-7656EFB4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99D-EC34-4E37-ADD1-F3F682E5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CBF7-9C6B-47B6-A8D1-7162E3B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F1F0-075C-4AA2-887B-CF47506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350A-5C0D-4F06-92EB-38AAEFBA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F711-D1EA-4153-B3C4-CCC83FB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8C89-2420-4AC0-823B-3223B41F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E5E2-CCB2-4453-900F-63C90DA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CCA8-F0FE-4968-8CA8-1D00B6C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505D-5DC6-4E24-97A7-B2FF4C9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8F2A7-A52E-4BCA-B0BA-F66423BB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B877-2F34-4D3A-ADB9-1F1C5A69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1D5-1C07-4B9E-9283-E8CC1E40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D6BE-BF9B-478A-9EA4-5894164C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EA82-4406-4C6C-9358-1CA2F477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D2F7-7D51-4890-AC71-A8D138C2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943D-DB1C-482F-A0D5-48738200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2335-2B6A-4B06-B124-0FC2801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0013-6061-4A0D-BBD3-6A4B792F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7488-EE53-41A6-AD3B-321D347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32C4-90FA-42A8-9769-AC6D86B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D99A-AD60-4542-BA5E-2FEF9762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39D4-536D-426D-B002-8E6E185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D01-E88A-4DF1-BED0-41AA965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D47B-6D27-4EFB-9DDA-04996243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6ECAD-CB4A-472C-B48D-005490F5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D8FEF-3113-469C-92B2-F3B629D7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98368-1E25-4D52-ACC0-D9B21FE9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DE9A-02A2-4B32-87AC-61A27FB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C3ED-73D6-4A9D-969A-91C630F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644B-BAA8-430C-A203-427A44F4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82591-CEC0-4D24-93AA-1E255718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E1566-3AE6-4922-AF49-F9A7AB4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28C0-2A78-4D67-8835-2CB2DA7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8B5-44D4-4008-81CA-AA16F5C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6156-650F-4ECF-8BD3-C73182F9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D306-8657-4FD9-BA84-8B84C2F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C9C6-F3F1-4EAC-BAB0-5B2190B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1EDE-B376-4A8C-8640-DCD15303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40E58-30CD-4795-BAF2-581239C5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63210-46D2-4456-AEE7-790CF78D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5F4B9-E528-4A02-A902-654A4444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E3125-CF3F-4AB5-BD4D-7B7EB5CC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ADB4-58B5-4D4E-A689-058DD737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60FA-3833-41C2-9DA6-3906EFA0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CEF-5234-4035-9FA4-CC4AADF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D77E8-A0C6-46CB-801B-C03ED74C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D91F-B8F1-4B80-9D05-05F5C6B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6D2F-DA1C-41EF-B27A-5C343389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AC0E9-611F-46B1-9D5B-BFACFC3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0A050-F6DE-485B-A284-CF48E8E1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B844-3B95-47D1-B611-99F97559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C2253-9077-4CDA-85C3-9C5636FB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2416D-E7F3-4088-8477-8A687976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87018-1257-4069-A8F3-48437726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EC9DE-B007-4F86-8936-AABE7E99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61C7-CA63-4697-8A98-C882B12E00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ABD-B9BD-4B7F-8292-CFE540D0D4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AEA0-BCE8-47D6-A534-AAC9C236D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11D5-9E55-4D21-ACFB-0F731760A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40B7-1479-4773-A47B-D7CCAD2B2F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BA3-FB81-4C1D-9473-A25C4BC08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5879-E816-4C0B-ABEC-9EB397866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D49-23F3-4F3E-ABB3-DF0ED998A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24B-E0D7-47C1-B241-58E4E7C13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6B1-6CA8-4DAA-9398-6CAE21F0F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3FDD-78FE-4CEA-9578-BB1A1B9AF6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B7EC-C214-4079-A3BF-59369ED313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4F9-A256-40BE-A688-3A2881AB8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4C70-486C-4551-8B4D-09F48F6F6C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CFE-645A-43B5-8B41-FF0BD57CEB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4167-61BF-40F3-A9E1-32B0FD9D5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DC3-8696-4518-9AC0-33F6570E19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627C-9E60-4069-8384-9E65F53B4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968F-11E5-4A4E-9886-E2931E8A8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16E1-A0D1-4F67-8319-0FD920BBE2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D36A-44D4-4B07-804A-D041506985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A7C0-CF35-40BC-A83B-EAFAD2A3C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47F5-4F86-49FD-87D4-149FD1BC34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328F-793A-4BA4-8AE6-D22DFF5DF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411-6E1F-4D67-AEEE-ECC1DEBB7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7D86-1717-4203-BAD3-424517711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02EF-BA75-4B2B-88EF-5DBB383E2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6BED-CF6A-4D5C-926E-AABFB8FCD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92B-B25D-4CAE-89E3-1CE0F494A3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61A-5F76-4FA4-84EB-A4E69AEFEA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FE5F-3A82-4587-B76C-2FAC0683D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156F-FC03-4953-994C-6B9C54EA2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E64-FAF1-4C64-9BCB-16B3B895B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6AD5-5248-48D7-AF8F-53516F45ED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CCB1-4560-45A9-937A-44E6AEA61D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F4F8-8F2E-4732-B2C4-F74B04D6D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1D5-E74A-40F4-A66C-69FD17443D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A083-B0CF-4360-87B0-0141482B0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7457-3276-40BD-BCCD-DBA963E47F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0CDA-D0E1-41F1-9809-AEC42FD4A0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E9E-B635-4110-9CE5-BBDF0E5DD1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A3B-46E9-4974-B671-977DDCC65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3128-3FD0-4A39-9F81-1AADC569C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2AB-9252-4D90-971E-2ECDAFCC9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F3B7-38FB-4E23-B02A-4C684BAB34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B0C-E289-4F1E-84B5-67BE91E98E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83A8-AF6F-4AE4-BC76-8FC97080D8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E804-68C3-49C6-9CF1-0DCA376D7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D3A-9153-42D2-AD69-FB0CF538FF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2CC-A6EC-4BE8-A4CB-002903435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104840" y="2838600"/>
            <a:ext cx="693432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9873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34668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9874"/>
          <p:cNvSpPr/>
          <p:nvPr/>
        </p:nvSpPr>
        <p:spPr>
          <a:xfrm>
            <a:off x="4092480" y="4211640"/>
            <a:ext cx="917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79875"/>
          <p:cNvSpPr/>
          <p:nvPr/>
        </p:nvSpPr>
        <p:spPr>
          <a:xfrm>
            <a:off x="7236000" y="4221000"/>
            <a:ext cx="9172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8849" descr=""/>
          <p:cNvPicPr/>
          <p:nvPr/>
        </p:nvPicPr>
        <p:blipFill>
          <a:blip r:embed="rId1"/>
          <a:stretch/>
        </p:blipFill>
        <p:spPr>
          <a:xfrm>
            <a:off x="528480" y="1852560"/>
            <a:ext cx="80870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7825" descr=""/>
          <p:cNvPicPr/>
          <p:nvPr/>
        </p:nvPicPr>
        <p:blipFill>
          <a:blip r:embed="rId1"/>
          <a:stretch/>
        </p:blipFill>
        <p:spPr>
          <a:xfrm>
            <a:off x="514440" y="685800"/>
            <a:ext cx="8115120" cy="548640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77826" descr=""/>
          <p:cNvPicPr/>
          <p:nvPr/>
        </p:nvPicPr>
        <p:blipFill>
          <a:blip r:embed="rId2"/>
          <a:stretch/>
        </p:blipFill>
        <p:spPr>
          <a:xfrm>
            <a:off x="1116000" y="6165720"/>
            <a:ext cx="7400880" cy="5241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77827"/>
          <p:cNvSpPr/>
          <p:nvPr/>
        </p:nvSpPr>
        <p:spPr>
          <a:xfrm>
            <a:off x="1547640" y="119700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7828"/>
          <p:cNvSpPr/>
          <p:nvPr/>
        </p:nvSpPr>
        <p:spPr>
          <a:xfrm>
            <a:off x="2050920" y="1725480"/>
            <a:ext cx="5050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77829"/>
          <p:cNvSpPr/>
          <p:nvPr/>
        </p:nvSpPr>
        <p:spPr>
          <a:xfrm>
            <a:off x="1619280" y="3716280"/>
            <a:ext cx="1368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7830"/>
          <p:cNvSpPr/>
          <p:nvPr/>
        </p:nvSpPr>
        <p:spPr>
          <a:xfrm>
            <a:off x="4284720" y="3726000"/>
            <a:ext cx="9334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7831"/>
          <p:cNvSpPr/>
          <p:nvPr/>
        </p:nvSpPr>
        <p:spPr>
          <a:xfrm>
            <a:off x="4500720" y="5229360"/>
            <a:ext cx="12952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77832"/>
          <p:cNvSpPr/>
          <p:nvPr/>
        </p:nvSpPr>
        <p:spPr>
          <a:xfrm>
            <a:off x="2124000" y="6165720"/>
            <a:ext cx="1008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7680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79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89089" descr=""/>
          <p:cNvPicPr/>
          <p:nvPr/>
        </p:nvPicPr>
        <p:blipFill>
          <a:blip r:embed="rId1"/>
          <a:stretch/>
        </p:blipFill>
        <p:spPr>
          <a:xfrm>
            <a:off x="776160" y="1447920"/>
            <a:ext cx="7591680" cy="39621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89090"/>
          <p:cNvSpPr/>
          <p:nvPr/>
        </p:nvSpPr>
        <p:spPr>
          <a:xfrm>
            <a:off x="5021280" y="194940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89091"/>
          <p:cNvSpPr/>
          <p:nvPr/>
        </p:nvSpPr>
        <p:spPr>
          <a:xfrm>
            <a:off x="5796000" y="2459160"/>
            <a:ext cx="7650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89092"/>
          <p:cNvSpPr/>
          <p:nvPr/>
        </p:nvSpPr>
        <p:spPr>
          <a:xfrm>
            <a:off x="4932360" y="2978280"/>
            <a:ext cx="80316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89093"/>
          <p:cNvSpPr/>
          <p:nvPr/>
        </p:nvSpPr>
        <p:spPr>
          <a:xfrm>
            <a:off x="7064280" y="3457440"/>
            <a:ext cx="1251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89094"/>
          <p:cNvSpPr/>
          <p:nvPr/>
        </p:nvSpPr>
        <p:spPr>
          <a:xfrm>
            <a:off x="1413000" y="397836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89095"/>
          <p:cNvSpPr/>
          <p:nvPr/>
        </p:nvSpPr>
        <p:spPr>
          <a:xfrm>
            <a:off x="5511960" y="4465800"/>
            <a:ext cx="10033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011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515360" cy="1047600"/>
          </a:xfrm>
          <a:prstGeom prst="rect">
            <a:avLst/>
          </a:prstGeom>
          <a:ln w="0">
            <a:noFill/>
          </a:ln>
        </p:spPr>
      </p:pic>
      <p:pic>
        <p:nvPicPr>
          <p:cNvPr id="1471" name="图片 90114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7334280" cy="14860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0115"/>
          <p:cNvSpPr/>
          <p:nvPr/>
        </p:nvSpPr>
        <p:spPr>
          <a:xfrm>
            <a:off x="1979640" y="270828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0116"/>
          <p:cNvSpPr/>
          <p:nvPr/>
        </p:nvSpPr>
        <p:spPr>
          <a:xfrm>
            <a:off x="3708360" y="3716280"/>
            <a:ext cx="8985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91137" descr=""/>
          <p:cNvPicPr/>
          <p:nvPr/>
        </p:nvPicPr>
        <p:blipFill>
          <a:blip r:embed="rId1"/>
          <a:stretch/>
        </p:blipFill>
        <p:spPr>
          <a:xfrm>
            <a:off x="533520" y="87624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2161" descr=""/>
          <p:cNvPicPr/>
          <p:nvPr/>
        </p:nvPicPr>
        <p:blipFill>
          <a:blip r:embed="rId1"/>
          <a:stretch/>
        </p:blipFill>
        <p:spPr>
          <a:xfrm>
            <a:off x="781200" y="1386000"/>
            <a:ext cx="7581600" cy="40860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92162"/>
          <p:cNvSpPr/>
          <p:nvPr/>
        </p:nvSpPr>
        <p:spPr>
          <a:xfrm>
            <a:off x="1476360" y="1892160"/>
            <a:ext cx="1440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92163"/>
          <p:cNvSpPr/>
          <p:nvPr/>
        </p:nvSpPr>
        <p:spPr>
          <a:xfrm>
            <a:off x="3220920" y="2901960"/>
            <a:ext cx="7700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2164"/>
          <p:cNvSpPr/>
          <p:nvPr/>
        </p:nvSpPr>
        <p:spPr>
          <a:xfrm>
            <a:off x="6362640" y="4408560"/>
            <a:ext cx="1800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2165"/>
          <p:cNvSpPr/>
          <p:nvPr/>
        </p:nvSpPr>
        <p:spPr>
          <a:xfrm>
            <a:off x="1374840" y="4913280"/>
            <a:ext cx="2124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461880" y="1971720"/>
            <a:ext cx="8220240" cy="29145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12000" y="2492280"/>
            <a:ext cx="4320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04720" y="1476360"/>
            <a:ext cx="8134560" cy="39052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812000" y="2997360"/>
            <a:ext cx="4320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557280" y="1638360"/>
            <a:ext cx="8029440" cy="35812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7812000" y="2637000"/>
            <a:ext cx="4320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523800" y="1671480"/>
            <a:ext cx="8096400" cy="351504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7740720" y="1773360"/>
            <a:ext cx="43164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77320" cy="573408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7812000" y="1413000"/>
            <a:ext cx="4320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15120" cy="243864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82946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6534000" cy="10573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82947"/>
          <p:cNvSpPr/>
          <p:nvPr/>
        </p:nvSpPr>
        <p:spPr>
          <a:xfrm>
            <a:off x="7885080" y="2133720"/>
            <a:ext cx="43200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1921" descr=""/>
          <p:cNvPicPr/>
          <p:nvPr/>
        </p:nvPicPr>
        <p:blipFill>
          <a:blip r:embed="rId1"/>
          <a:stretch/>
        </p:blipFill>
        <p:spPr>
          <a:xfrm>
            <a:off x="495360" y="914400"/>
            <a:ext cx="8153280" cy="502920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1922"/>
          <p:cNvSpPr/>
          <p:nvPr/>
        </p:nvSpPr>
        <p:spPr>
          <a:xfrm>
            <a:off x="7740720" y="3500280"/>
            <a:ext cx="4316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0897" descr=""/>
          <p:cNvPicPr/>
          <p:nvPr/>
        </p:nvPicPr>
        <p:blipFill>
          <a:blip r:embed="rId1"/>
          <a:stretch/>
        </p:blipFill>
        <p:spPr>
          <a:xfrm>
            <a:off x="509760" y="1467000"/>
            <a:ext cx="8124480" cy="39240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0898"/>
          <p:cNvSpPr/>
          <p:nvPr/>
        </p:nvSpPr>
        <p:spPr>
          <a:xfrm>
            <a:off x="7740720" y="2997360"/>
            <a:ext cx="43164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8:28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